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453-FF14-4F02-A9D5-182441F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403-B087-4A4F-B97F-CE8454E0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D20-C203-438B-85DF-BDB529A9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E42-8670-4D22-9333-EAB050F8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5C21-601C-4A0E-BA36-02F12C20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A0B-FD39-46AA-9D8B-6D1638BF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C479-D844-44DE-9B34-952C6075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7219-5DBB-4170-B70D-FBE391D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5685-C38A-482C-9E72-10BE2A6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CFE7-391F-4720-AA4E-3F782466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198-1FEB-44D9-88E2-36CFA50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15A-31CA-4AE6-B901-97810AB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300-66AE-4B17-832C-52CB7C0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0351-E302-4436-88D0-3C36995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FCEA-0A9C-4E44-9E8D-DF4C3F9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014F-E7F6-465E-9E02-407DC48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E0DF-3152-4E9B-B94B-4BFD9A78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BE-5752-471F-8504-161BEB4B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BFE-F210-4610-8753-79D88344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CE2-DD8A-4B80-BECB-C343A8C5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297-CBC9-400D-81ED-34CB460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0E8-4918-4D5D-A554-46D67946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89F-9073-498B-A71C-6C1D256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A40-ACCC-439A-9837-7549678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EDA-5C6E-4DB9-B584-46D7ADDE9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248-018A-4230-9601-C4C72E181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372600" y="304920"/>
            <a:ext cx="1952640" cy="1703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olar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’s out ther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6272E-006 C -0.19809 -0.04972 -0.39601 -0.09921 -0.54028 -0.02682 C -0.68455 0.04556 -0.82569 0.30666 -0.86614 0.43432 C -0.90677 0.56198 -0.84983 0.69034 -0.78316 0.73983 C -0.71667 0.78932 -0.55104 0.77544 -0.46614 0.7315 C -0.38125 0.68756 -0.27934 0.57216 -0.27413 0.47549 C -0.26858 0.37882 -0.33871 0.20953 -0.43403 0.15125 C -0.52899 0.09343 -0.68576 0.0754 -0.84462 0.12697 C -1.00347 0.17854 -1.27413 0.39131 -1.38715 0.46069 E">
                                      <p:cBhvr>
                                        <p:cTn id="6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707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The Solar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Solar System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- The family of planets, moons, and other smaller space objects that move around the su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3962520" cy="317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3886200"/>
            <a:ext cx="3352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ur solar system is home to planets, moons, asteroids, meteoroids, and comet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lane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lane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- A non-luminous celestial body larger than a comet or asteroid which orbits the Su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38480" y="3048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5486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Celestial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- has something to do with outer space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Moon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- A natural satellite that orbits around a plane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37335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3809880" cy="2686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steroi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Asteroid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- Numerous small celestial bodies that orbit the Sun located between Jupiter and Ma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69160" y="3581280"/>
            <a:ext cx="3174840" cy="269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5812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e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e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- A frozen chunk of ice, gas, and dust, a few kilometres in diameter, that orbits the Sun.  Its centre, or nucleus, starts to evaporate when it gets close to the Sun and the vapour forms a long tai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17484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133720" y="4287960"/>
            <a:ext cx="3429000" cy="2570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474336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teoroi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Meteoroid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- An irregularly shaped moving object in space: smaller than an asteroid, larger than a speck of dust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en they fall into our atmosphere, friction from hitting air molecules causes them to burn and glow (shooting star).  Meteoroids that glow are called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meteor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48200" cy="22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41907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1:12:55Z</dcterms:created>
  <dc:creator>Teacher</dc:creator>
  <dc:description/>
  <dc:language>en-US</dc:language>
  <cp:lastModifiedBy>nbdoe</cp:lastModifiedBy>
  <dcterms:modified xsi:type="dcterms:W3CDTF">2008-02-19T11:49:10Z</dcterms:modified>
  <cp:revision>9</cp:revision>
  <dc:subject/>
  <dc:title>The Solar System</dc:title>
</cp:coreProperties>
</file>